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D82-7C67-4789-8D13-CC2672B2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EE3-B791-4A59-8B4E-87F61816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812-E73F-4664-A07E-AABD2F8D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A8A-1969-4A3E-8686-7BB90293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7B00-5056-4AD7-B0D9-867F2EAD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5D5A-E4E8-42F0-B93D-DB6E5D7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8C23-26B8-4941-9DE6-7B09FF21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57C8-0EC6-4755-B041-D73C8145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1B05-1CD8-41DB-ACD4-6F64DE01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96F0-9251-4915-B3CC-E6626365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467B-9A93-445C-8D78-2343916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60D-AE0A-4A0B-BE5B-02D17C13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02B5-D1F8-4928-B78A-3635BF0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A25C-8A04-4E81-A710-8DBA1DD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4261-5A30-4D00-B650-08818C6C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F568-5C5A-412C-AB0D-7B4735ED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B3EF-3434-4749-9865-D10AB814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9F8-C5AF-49B9-B182-15E53520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677-E174-444E-B892-4E24A1B4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FF8-655D-4D5E-A62F-773E08EE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E2E-6517-49FC-A974-56E8B03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2F7-A514-4120-A865-A8800AC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ABF-8576-462B-B14D-4C85369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D34-D981-4689-80C1-FCF3393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F853-5AAB-4935-8DED-EEC8A983E8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C148-8DCD-4C29-80D8-C1AE39C27F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Making Decisions 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480" y="259092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us makes decisio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ecisions become so automatic that they become habi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EEC8-E886-42CE-8DAD-60523DC677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up or reflec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your deci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work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not work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change or do over?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DEB-A76A-4980-99E9-9BC397D0E0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everal models to use when making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great deal of similarity among model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0C1-7684-4628-9E7E-63CAEA8E73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decision to be made/problem to be 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her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lternatives-possi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 advantages and disadvantages of each altern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decision and form a pla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decis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up - Evaluate the dec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478-5346-4E72-8AD9-8A384F8BC8A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blem to be solved or the decision to be ma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y initially need to be general in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yourself som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my problem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problem worth solv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if I ignore it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AD3-EB12-49C3-B834-C29E005331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ing information is probably occurring throughout this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we need information before we can generate alternativ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information before we can determine the advantages/disadvantages of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impacted by the decision may be one of the pieces of information that we ne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318-8BCC-42F8-A192-E84EFD66D3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lternatives-possibilit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may be useful for som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options from other’s persp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there may not be a perfect solu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12D-DD78-410A-8235-09D2EF367B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 advantages and disadvantages of each alterna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 are some graphic organizers that can help with th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about a check list, or a chart with plus and minus columns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F85-6D64-4899-9D55-BA28CB54EF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decision and form a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you need to do to implement this pl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carry it ou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about – who, what, where, when and h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B73-356B-4AA2-A6FB-0CBB7D630EB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king Decis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decis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following through on your decision means that you have changed your solution or decision to not doing something.  Is that what you really want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ther words- Do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B7E-8E61-4B79-B3B3-CD27FB7441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PS</cp:lastModifiedBy>
  <dcterms:modified xsi:type="dcterms:W3CDTF">2009-07-27T21:49:07Z</dcterms:modified>
  <cp:revision>3</cp:revision>
  <dc:subject/>
  <dc:title>PowerPoint Presentation</dc:title>
</cp:coreProperties>
</file>